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A16-0381-4327-88E2-4EC62A50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CFF-BA98-46BB-937B-4C9BFCC0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DE7-456C-49C9-AEF8-41CD7FC1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AB6-6353-4C1B-A646-21923F8D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32A-6DB8-4A4D-85B4-1AFF857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081-4D59-4949-BE4C-7B70526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434-3605-4BC8-A0F4-42FF0622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AEF-2E30-4B9F-AAEF-A0B3458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94B-4191-4A57-B5C6-C7C65976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926-C97E-42CF-AFA2-31337547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31D4-4F03-4C23-BECE-B711B2C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0F4-485F-48DB-A857-DDFC2101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6F81-BFA1-414C-873D-B97F2043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flags/flagtemplate_sp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geos/sp.html" TargetMode="External"/><Relationship Id="rId2" Type="http://schemas.openxmlformats.org/officeDocument/2006/relationships/hyperlink" Target="http://www.worldatlas.com/webimage/countrys/europe/spain/estimeln.htm" TargetMode="External"/><Relationship Id="rId3" Type="http://schemas.openxmlformats.org/officeDocument/2006/relationships/hyperlink" Target="http://www.spainexpat.com/spain/information/castillian_spanish/" TargetMode="External"/><Relationship Id="rId4" Type="http://schemas.openxmlformats.org/officeDocument/2006/relationships/hyperlink" Target="http://worldmusic.nationalgeographic.com/view/page.basic/country/content.country/spain_14" TargetMode="External"/><Relationship Id="rId5" Type="http://schemas.openxmlformats.org/officeDocument/2006/relationships/hyperlink" Target="http://news.bbc.co.uk/2/hi/europe/6368623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cia.gov/library/publications/the-world-factbook/maps/maptemplate_sp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outube.com/watch?v=m0YRLvbu6zA" TargetMode="External"/><Relationship Id="rId3" Type="http://schemas.openxmlformats.org/officeDocument/2006/relationships/hyperlink" Target="http://www.youtube.com/watch?v=jQ8_6Su9xGc&amp;feature=related" TargetMode="External"/><Relationship Id="rId4" Type="http://schemas.openxmlformats.org/officeDocument/2006/relationships/hyperlink" Target="http://www.youtube.com/watch?v=jQ8_6Su9xGc&amp;feature=related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lag of Sp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0920" y="2130120"/>
            <a:ext cx="487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00240" y="388620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Emily Ko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ñol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cia.gov/library/publications/the-world-factbook/geos/sp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ldatlas.com/webimage/countrys/europe/spain/estimel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painexpat.com/spain/information/castillian_spanish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orldmusic.nationalgeographic.com/view/page.basic/country/content.country/spain_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news.bbc.co.uk/2/hi/europe/6368623.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guardian.co.uk/world/2012/feb/19/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chos bá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 de España: 46,754,7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mente hay 26 países con poblaciones más grandes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yoría de las personas en España son católicos romanos.  Solamente hay 6% de la población con una otra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idioma oficial es Castell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43040" y="5335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iudades más importantes son Madrid, la capital; Barcelona; y Val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Sp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181240"/>
            <a:ext cx="43704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gobierno de España es una monarquía constituciona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ey es Juan Carlos I, desde 1975 y so poder pasará a su hijo, Principe Fel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, hay 17 comunidades autono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19720" y="373392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371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43684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695760" y="0"/>
            <a:ext cx="5448240" cy="3733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880" y="2743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3733920"/>
            <a:ext cx="1981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167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rotesters in central Madrid on Sunday."/>
          <p:cNvPicPr/>
          <p:nvPr/>
        </p:nvPicPr>
        <p:blipFill>
          <a:blip r:embed="rId1"/>
          <a:stretch/>
        </p:blipFill>
        <p:spPr>
          <a:xfrm>
            <a:off x="5181480" y="4481640"/>
            <a:ext cx="3962520" cy="2376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cesos Ac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2004, había un gran ataque en una estación de tren en Madrid. Este ataque, hecho por los musalmanes, murió 191 personas y causó daño por cientos más. Este mes, los 29 personas sospechados de este ataque está en cort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año, muchos personas están protestando en los calles debido de la reducción de gastos y cambios en los derechos laborale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idioma y los ac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ellano es la más popluar idioma: 74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as idiomas incluyen: Catalán, Gallego, y Vas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ellan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/th/ para “c” y “z,” pero usa /s/ para “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voseo para la plural del forma de “t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el “tú” mucho en cambio de “U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de00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342200" y="0"/>
            <a:ext cx="1801800" cy="3143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ú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y muchos géneros de música en España, estilos folklóricos Vasco, Galego, y Catá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j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lamenco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m0YRLvbu6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s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o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umba catal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zar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82880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2:51:55Z</dcterms:created>
  <dc:creator>Emily</dc:creator>
  <dc:description/>
  <dc:language>en-US</dc:language>
  <cp:lastModifiedBy>Emily</cp:lastModifiedBy>
  <dcterms:modified xsi:type="dcterms:W3CDTF">2012-02-20T14:57:07Z</dcterms:modified>
  <cp:revision>8</cp:revision>
  <dc:subject/>
  <dc:title>España</dc:title>
</cp:coreProperties>
</file>